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EA3-4CC2-4C04-B11D-8BCDE8C3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9D7-EC5A-4E36-99F1-915F4252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24D-6E1A-4180-A787-1E361DDE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AC8-99FF-4B7B-AEA8-B30B4119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CF4-B284-4538-82A6-A39A41D5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6F9-63E3-49C3-A8A3-153B3B8E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020-34BC-4B4B-B7A7-6EF7808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294-C7A7-4950-B3A2-553DE4DB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00B-4B3F-465C-90FC-90E9EE00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C3D-FE5C-4DA9-8B61-113D34C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EC2-5CFD-4273-89FD-9956A4E1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9F9-727C-4E9B-801B-C0695BB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F584-4D35-4856-BB50-556B657F13C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Impact Of Natural Hazard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DC’s Vs L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ural hazards will affect More Economically Developed Countries (MEDC's)in a differing way to those that occur in Less Economically Developed Countries(LEDC'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ealth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C's have the medical resources and money to quickly get appropriate aid to areas after a natural disa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DC's often have to rely on aid from overseas as their health system, which is inadequ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overseas aid takes time to arrive, which could mean far more casual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mergency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EDC's who have a volcanic or earthquake risk, such as Japan and New Zealand, there are well thought out emergency procedur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actices in schools and places of work mean that people know what to do it the event of a natural disast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Government's and military have special emergency plans to help with the situ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ten LEDC's do not have these emergency plans, and so (as seen in TURKEY) far more damage can be done before the emergency services reach the stricken are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uilding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untries such as Japan and the United States have been at the fore front of developing buildings that have more chance of resisting an earthquak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 houses in San Francisco are made of wood, to make them more flexible and allow them to move with the quak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r skyscrapers are built with flexible foundations, which literally allow them to sway during a quake, rather than being rigid and falling dow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countries in areas prone to natural hazards have building codes to say where they can and cannot build, and how high the buildings can b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uilding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w Zealand is a good example of where this occu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DC's don't tend to have the technology available or money to pay for it, and soften their buildings are very susceptible to earthquak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example was the Armenian earthquake in 1988, which was 0.1 less on the Richter scale than Kobe, but killed 20,000 more peopl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the Armenian houses were built of stone and so collapsed instan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cientific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sts work throughout the world, trying to predict earthquakes and volcano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far they have found it very difficult to predict earthquakes, although scientists monitoring the San Andreas Fault in California have planted a huge number of seismographs in the ground to try to detect even the faintest of tremo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olcanoes generally are easier to predict, although the specific time of the eruption is not so easy to d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cientific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cientists can measure changes within the mountain that helps them to predict that the volcano is going to erupt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usually allows the Local Authorities sufficient time to evacuate people from the danger area (as seen at both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Mt. St. Helens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Mt. Pinatubo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owever they still find it very difficult to accurately predict the size of the eruptio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EDC's do tend to have more investment for this type of research and development than LEDC'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C's tend to be able to recover quickly from a natural disaster, due to having the investment and technology needed to return the area to as good as new as soon as possi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LEDC's often have to rely on aid from overseas, this quick recovery is often impossible for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4:52:53Z</dcterms:created>
  <dc:creator>Dell_02</dc:creator>
  <dc:description/>
  <dc:language>en-US</dc:language>
  <cp:lastModifiedBy>Dell_02</cp:lastModifiedBy>
  <dcterms:modified xsi:type="dcterms:W3CDTF">2011-01-26T15:01:02Z</dcterms:modified>
  <cp:revision>1</cp:revision>
  <dc:subject/>
  <dc:title>Impact Of Natural Hazards</dc:title>
</cp:coreProperties>
</file>